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6F0C0-319A-4733-89A3-347667A4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DEE4-805E-45F7-A51E-5694D987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CBDEA-EBF6-444C-B143-F903C1A6D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6185-1CE5-4F86-AD80-C51073361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4ECAC-24E1-4986-BE12-0BA60C112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A8DC4-A4D6-468F-8069-086ACD137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0DA2B-82F1-464F-B55C-B65EA37C7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2641E-D3CA-41D7-832D-6711ABCA8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AB084-A4C7-425B-B9FB-F1DB56D53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F7B05-61B9-436F-A299-32255547F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EE27F-B0EC-4262-9433-32A290EDB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CBD07-14F0-4F9B-916C-45FC2DE9B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9585A-5685-40CB-8C13-29E3532A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8D6D3-D943-45F7-8E63-F60289AFC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B444B-D598-498A-9996-6BA6877F4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9EFD1-5EDC-498D-955F-BC17A5B8B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2626C-32ED-47C7-8572-B09EC80E3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069C-3E14-4EA8-A3F2-4D466A1A2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55E3-8D44-4F8E-9C4A-94BBEE68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0BD3-99DE-49DB-BFD5-C4DCEE70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20E8-3437-423B-AB71-704E4002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9582-56E6-4993-B07D-F89D4C96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DE83-809F-4788-A8E0-BECC2396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25D8-CCF8-446F-B47A-24B5D4EC8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4FAA-5378-41DA-BEF6-6205698ABA3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63D9-41EC-4CFE-9B63-1BB47586EB3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predictable Future of Public School Finance</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ducation will continue to be viewed as the key to economic growth.</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a growing mismatch between the literacy of the labor force and the competency required for the job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wide spectrum of school finance initiatives and experiments will be undertak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onal disparities of educational resources will incre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umber of public school enrollments in the US will incre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y 15% of jobs will require diplomas.  More than half will require post secondary education and training.</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ity issues will become the major problems faced by policymaker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ducational equity will be redefined, not in terms of access, but in terms of expenditur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usive forces educational leaders must consider in determing the educational structure includes analyzing the future in relation to these data:</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graphic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est rat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x limitation measur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ederal deficit/surplu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k management</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nefit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need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resolved Issu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o should be educated at public expens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what grade level should free education be provid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l the states cut back education programs if revenues diminis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l the states provided adequate funds to sustain their current programs at their desirable or optimum leve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uld the states continue to increase their share of the revenue mix even if it results in the loss of local control of educa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inadequacy of funding a matter of lack of ability to pay, the problems of taxpayers lack of willingness to pay, and/or the demographics of a particular st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is considered by citizens of the United States to be of high priority and importance.  Progress and improvements usually occur over time, in spite of temporary setbacks.  There is no valid reason to believe that this will not continu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ture</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finance in the future will be affected by economic conditions, inflation or deflation, taxation policies, legislation, philosophies, and court ac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ew laws that are enacted will continue to bring greater equity and excellence to the financing of education but also with greater equity and fairness to the taxpayers who pay the cos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8:10:50Z</dcterms:created>
  <dc:creator>Cynthia Altemueller</dc:creator>
  <dc:description/>
  <dc:language>en-US</dc:language>
  <cp:lastModifiedBy>AEURY</cp:lastModifiedBy>
  <dcterms:modified xsi:type="dcterms:W3CDTF">2006-01-27T22:14:36Z</dcterms:modified>
  <cp:revision>3</cp:revision>
  <dc:subject/>
  <dc:title>Finance in Education</dc:title>
</cp:coreProperties>
</file>